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5535B-71F2-48B7-AEF1-15EEFD0B5E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дготвена е PowerPoint презентација за да му се помогне на обучувачот да поттикне дискусија за сите наставни единици од курсот. Обучувачот треба да ги подели формуларите за оценка на курсот пред почетокот на ова предавање. Во одредени околности, може да е соодветно формуларите за оценка на курсот да се поделат уште на самиот почеток на курсот со цел слушателите истиот да го пополнуваат ако што минува курсот и кога им се свежи сеќавањата за предавањата. Исто така има тенденција доколку им се дадат на крајот од курсот слушателите да не ги пополнат формулираните целосно.  </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8AF55-3D10-43C8-B880-2D009AC1F7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5C6C3-FAB9-49C1-B83E-2385E6FF92C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ако и во претходните наставни единици, треба да се следи дневниот ред и очекуваните резултати дадени на почетокот на наставната единица.</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F31F7-129A-4BC6-8624-C2DB63BAE5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учувачот треба да направи краток преглед на дневниот ред и очекуваните резултати на секоја наставна единица. За идно изведување на курсот треба да се запишат повратните информации и предлози на слушателите.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96BE5-5B44-49FB-A922-8498A53CCC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79074-81DD-4E36-91C7-89D440708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C2D14-F470-448D-91B8-C07BD1563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C7164-3CFC-4FED-ADB2-E776FE824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AA5D7-3350-40AF-8521-F7806DBB5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8CCDA-5EAA-4B23-A458-C1CF21669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B8CB7-E079-4A5F-B930-0E17E75AE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9399C-9C7D-41D8-8194-659068B9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93964-5F6B-4195-9B37-D9145CCED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66BB3-80ED-440F-A933-E7260C1CD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D5D8-3EB4-44C8-B6D9-2E6C3DB17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807D-F1CD-44E1-ABEF-1CBD314C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80063-A1C3-44DC-8659-A680BA331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7E848-9B24-470E-8F61-67F0C37CF4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Наставна единица 1.3.5</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Повратни информации од слушателите </a:t>
            </a:r>
            <a:endParaRPr b="0" lang="en-US" sz="2800" spc="-1" strike="noStrike">
              <a:solidFill>
                <a:srgbClr val="000000"/>
              </a:solidFill>
              <a:latin typeface="Calibri"/>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898989"/>
                </a:solidFill>
                <a:latin typeface="Calibri"/>
              </a:rPr>
              <a:t>Завршување на курсот</a:t>
            </a:r>
            <a:endParaRPr b="0" lang="en-US" sz="28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2 Претрес и заплена </a:t>
            </a:r>
            <a:br>
              <a:rPr sz="4000"/>
            </a:br>
            <a:endParaRPr b="0" lang="en-US" sz="4000" spc="-1" strike="noStrike">
              <a:solidFill>
                <a:srgbClr val="000000"/>
              </a:solidFill>
              <a:latin typeface="Calibri"/>
            </a:endParaRPr>
          </a:p>
        </p:txBody>
      </p:sp>
      <p:sp>
        <p:nvSpPr>
          <p:cNvPr id="70" name=""/>
          <p:cNvSpPr txBox="1"/>
          <p:nvPr/>
        </p:nvSpPr>
        <p:spPr>
          <a:xfrm>
            <a:off x="457200" y="1417680"/>
            <a:ext cx="8229600" cy="4960800"/>
          </a:xfrm>
          <a:prstGeom prst="rect">
            <a:avLst/>
          </a:prstGeom>
          <a:noFill/>
          <a:ln w="0">
            <a:noFill/>
          </a:ln>
        </p:spPr>
        <p:txBody>
          <a:bodyPr anchor="t">
            <a:normAutofit/>
          </a:bodyPr>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Arial"/>
                <a:ea typeface="ＭＳ Ｐゴシック"/>
              </a:rPr>
              <a:t>По предавањето на оваа наставна единица слушателите ќе можат: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о објаснат соодветното планирање и подготовка на упад заради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алатките и алатките кои може да се потребни за претрес на место каде може да се најдат електронски докази</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о би го обезбедиле и документирале местото на кривичниот настан каде се појавуваат електронски докази. </a:t>
            </a: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10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1</a:t>
            </a:r>
            <a:br>
              <a:rPr sz="4000"/>
            </a:br>
            <a:endParaRPr b="0" lang="en-US" sz="4000" spc="-1" strike="noStrike">
              <a:solidFill>
                <a:srgbClr val="000000"/>
              </a:solidFill>
              <a:latin typeface="Calibri"/>
            </a:endParaRPr>
          </a:p>
        </p:txBody>
      </p:sp>
      <p:sp>
        <p:nvSpPr>
          <p:cNvPr id="72" name=""/>
          <p:cNvSpPr txBox="1"/>
          <p:nvPr/>
        </p:nvSpPr>
        <p:spPr>
          <a:xfrm>
            <a:off x="457200" y="1600200"/>
            <a:ext cx="8229600" cy="5035680"/>
          </a:xfrm>
          <a:prstGeom prst="rect">
            <a:avLst/>
          </a:prstGeom>
          <a:noFill/>
          <a:ln w="0">
            <a:noFill/>
          </a:ln>
        </p:spPr>
        <p:txBody>
          <a:bodyPr anchor="t">
            <a:normAutofit/>
          </a:bodyPr>
          <a:p>
            <a:pPr>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Arial"/>
                <a:ea typeface="ＭＳ Ｐゴシック"/>
              </a:rPr>
              <a:t>По предавањето на оваа наставна единица слушателите ќе можат: </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идентификуваат изворите на електронски докази врз основа на покажаните ситуаци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опишат стандардните оперативни постапки (СОП) за пакување, пренос и складирање на електронските доказ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направат разлика меѓу СОП врз основа на видот на уреди</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разговараат за техниките за проверка дали компјутерскиот систем е вклучен или исклучен</a:t>
            </a:r>
            <a:endParaRPr b="0" lang="en-US" sz="2500" spc="-1" strike="noStrike">
              <a:solidFill>
                <a:srgbClr val="000000"/>
              </a:solidFill>
              <a:latin typeface="Calibri"/>
            </a:endParaRPr>
          </a:p>
          <a:p>
            <a:pPr>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а ги применат општите упатства за заплена на електронски уреди</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3</a:t>
            </a:r>
            <a:br>
              <a:rPr sz="4000"/>
            </a:br>
            <a:r>
              <a:rPr b="1" lang="mk-MK" sz="4000" spc="-1" strike="noStrike">
                <a:solidFill>
                  <a:srgbClr val="000000"/>
                </a:solidFill>
                <a:latin typeface="Calibri"/>
              </a:rPr>
              <a:t>Претрес и заплена - Дел 2</a:t>
            </a:r>
            <a:br>
              <a:rPr sz="4000"/>
            </a:br>
            <a:endParaRPr b="0" lang="en-US" sz="4000" spc="-1" strike="noStrike">
              <a:solidFill>
                <a:srgbClr val="000000"/>
              </a:solidFill>
              <a:latin typeface="Calibri"/>
            </a:endParaRPr>
          </a:p>
        </p:txBody>
      </p:sp>
      <p:sp>
        <p:nvSpPr>
          <p:cNvPr id="74" name=""/>
          <p:cNvSpPr txBox="1"/>
          <p:nvPr/>
        </p:nvSpPr>
        <p:spPr>
          <a:xfrm>
            <a:off x="457200" y="1600200"/>
            <a:ext cx="8229600" cy="503568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Arial"/>
                <a:ea typeface="ＭＳ Ｐゴシック"/>
              </a:rPr>
              <a:t>По предавањето на оваа наставна единица слушателите ќе можат: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прават разлика меѓу ситуација со уреди на местото на настанот и ситуација на проток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дефинираат ги термините „нестабилни податоци“, „преодни податоци“ и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бјаснат вредноста на нестабилните податоци за истрагите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наведат барем четири вида на податоци кои би се изгубиле без форензичка анализа на живи податоци</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роведат мерки за првична реакција кога се соочуваат со компјутерски систем кој е во функција</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опишат предизвиците на шифрирањето и можностите на форензичката анализа на живи податоци во ситуација во која има шифрирање</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разговараат за предизвиците на различните правни рамки во ситуација во која податоците се чуваат на далечински локации, на пример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дефинираат терминот „компјутерско работење во облак“</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споредат барем три услуги од компјутерското работење во облак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700" spc="-1" strike="noStrike">
                <a:solidFill>
                  <a:srgbClr val="000000"/>
                </a:solidFill>
                <a:latin typeface="Calibri"/>
              </a:rPr>
              <a:t>1.3.2 и 1.3.3 Кратки упатства за претрес и заплена и практични вежби </a:t>
            </a:r>
            <a:br>
              <a:rPr sz="3700"/>
            </a:br>
            <a:endParaRPr b="0" lang="en-US" sz="37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Arial"/>
                <a:ea typeface="ＭＳ Ｐゴシック"/>
              </a:rPr>
              <a:t>По предавањето на оваа наставна единица слушателите ќе можат: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оперативен план з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спроведат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постапуваат со електронски доказ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о документираат и обезбедат местото на претресот</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ги идентификуваат изворите на електронски докази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список на запленетите предмети</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а состават извештај во зависност од претресо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fontScale="97000"/>
          </a:bodyPr>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ја завршила фазата на подготовка и планирање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претстават како групата постапувала со осомниченото лице доколку тоа било присутно на местото на настан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ја претстават и објаснат постапката за претрес и заплена</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ги претстават запленетите предмети релевантни за случајот</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Да објаснат како било постапувано со предметите  </a:t>
            </a:r>
            <a:endParaRPr b="0" lang="en-US" sz="2800" spc="-1" strike="noStrike">
              <a:solidFill>
                <a:srgbClr val="000000"/>
              </a:solidFill>
              <a:latin typeface="Calibri"/>
            </a:endParaRPr>
          </a:p>
          <a:p>
            <a:pP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3.4 Претрес и заплена - Повратни информации по практичната вежба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83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1.3.5 Завршување на курсот</a:t>
            </a:r>
            <a:endParaRPr b="0" lang="en-US" sz="4400" spc="-1" strike="noStrike">
              <a:solidFill>
                <a:srgbClr val="000000"/>
              </a:solidFill>
              <a:latin typeface="Calibri"/>
            </a:endParaRPr>
          </a:p>
        </p:txBody>
      </p:sp>
      <p:sp>
        <p:nvSpPr>
          <p:cNvPr id="80" name=""/>
          <p:cNvSpPr txBox="1"/>
          <p:nvPr/>
        </p:nvSpPr>
        <p:spPr>
          <a:xfrm>
            <a:off x="457200" y="1106640"/>
            <a:ext cx="8229600" cy="5751360"/>
          </a:xfrm>
          <a:prstGeom prst="rect">
            <a:avLst/>
          </a:prstGeom>
          <a:noFill/>
          <a:ln w="0">
            <a:noFill/>
          </a:ln>
        </p:spPr>
        <p:txBody>
          <a:bodyPr anchor="t">
            <a:normAutofit/>
          </a:bodyPr>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о предавањето на оваа наставна единица слушателите ќе можа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дадат соодветни повратни информации за курсот и неговата делотворност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пополнат формуларите за оценка на курсот на Советот на Европа</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идентификуваат прашањата кои треба да се доработат со цел курсот да се предава на национално ниво</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и опишат активностите кои треба да се преземат после курсот со цел материјалите од курсот да се подготват за настава на национално ниво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невен ред</a:t>
            </a:r>
            <a:endParaRPr b="0" lang="en-US" sz="4400" spc="-1" strike="noStrike">
              <a:solidFill>
                <a:srgbClr val="000000"/>
              </a:solidFill>
              <a:latin typeface="Calibri"/>
            </a:endParaRPr>
          </a:p>
        </p:txBody>
      </p:sp>
      <p:sp>
        <p:nvSpPr>
          <p:cNvPr id="52"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прв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Отворање на курсот и запознавање</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Вовед за прашањето на електронски доказ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Извори на докази</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втор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Кого и што да земете, обезбедување и документирање на местото на настанот</a:t>
            </a:r>
            <a:endParaRPr b="0" lang="en-US" sz="1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a:t>
            </a:r>
            <a:endParaRPr b="0" lang="en-US" sz="2000" spc="-1" strike="noStrike">
              <a:solidFill>
                <a:srgbClr val="000000"/>
              </a:solidFill>
              <a:latin typeface="Calibri"/>
            </a:endParaRPr>
          </a:p>
          <a:p>
            <a:pPr lvl="3" marL="1600200" indent="-228600">
              <a:lnSpc>
                <a:spcPct val="90000"/>
              </a:lnSpc>
              <a:spcBef>
                <a:spcPts val="3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mk-MK" sz="1400" spc="-1" strike="noStrike">
                <a:solidFill>
                  <a:srgbClr val="000000"/>
                </a:solidFill>
                <a:latin typeface="Calibri"/>
              </a:rPr>
              <a:t>на уреди на местото на настанот и во ситуација на проток на живи податоци</a:t>
            </a:r>
            <a:endParaRPr b="0" lang="en-US" sz="1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Теми опфатени со предавањата од третиот ден</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Дневен преглед</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Кратки упатства и Практична вежба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ретрес и заплена - Повратни информации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000" spc="-1" strike="noStrike">
                <a:solidFill>
                  <a:srgbClr val="000000"/>
                </a:solidFill>
                <a:latin typeface="Calibri"/>
              </a:rPr>
              <a:t>Повратни информации и завршување на курсот</a:t>
            </a:r>
            <a:endParaRPr b="0" lang="en-US" sz="2000" spc="-1" strike="noStrike">
              <a:solidFill>
                <a:srgbClr val="000000"/>
              </a:solidFill>
              <a:latin typeface="Calibri"/>
            </a:endParaRPr>
          </a:p>
          <a:p>
            <a:pPr lvl="2" marL="1143000" indent="-228600">
              <a:lnSpc>
                <a:spcPct val="9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Распоред за курсот на првите тимови</a:t>
            </a:r>
            <a:endParaRPr b="0" lang="en-US" sz="4400" spc="-1" strike="noStrike">
              <a:solidFill>
                <a:srgbClr val="000000"/>
              </a:solidFill>
              <a:latin typeface="Calibri"/>
            </a:endParaRPr>
          </a:p>
        </p:txBody>
      </p:sp>
      <p:sp>
        <p:nvSpPr>
          <p:cNvPr id="54" name=""/>
          <p:cNvSpPr/>
          <p:nvPr/>
        </p:nvSpPr>
        <p:spPr>
          <a:xfrm>
            <a:off x="-1062000" y="173160"/>
            <a:ext cx="432108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Calibri"/>
            </a:endParaRPr>
          </a:p>
        </p:txBody>
      </p:sp>
      <p:pic>
        <p:nvPicPr>
          <p:cNvPr id="55" name="P 1" descr="COE.png"/>
          <p:cNvPicPr/>
          <p:nvPr/>
        </p:nvPicPr>
        <p:blipFill>
          <a:blip r:embed="rId1"/>
          <a:stretch/>
        </p:blipFill>
        <p:spPr>
          <a:xfrm>
            <a:off x="117360" y="1119240"/>
            <a:ext cx="3210120" cy="695160"/>
          </a:xfrm>
          <a:prstGeom prst="rect">
            <a:avLst/>
          </a:prstGeom>
          <a:ln w="0">
            <a:noFill/>
          </a:ln>
        </p:spPr>
      </p:pic>
      <p:graphicFrame>
        <p:nvGraphicFramePr>
          <p:cNvPr id="56" name=""/>
          <p:cNvGraphicFramePr/>
          <p:nvPr/>
        </p:nvGraphicFramePr>
        <p:xfrm>
          <a:off x="-334800" y="723960"/>
          <a:ext cx="11269440" cy="5613480"/>
        </p:xfrm>
        <a:graphic>
          <a:graphicData uri="http://schemas.openxmlformats.org/drawingml/2006/table">
            <a:tbl>
              <a:tblPr/>
              <a:tblGrid>
                <a:gridCol w="1446840"/>
                <a:gridCol w="1111320"/>
                <a:gridCol w="722520"/>
                <a:gridCol w="181440"/>
                <a:gridCol w="363240"/>
                <a:gridCol w="2486520"/>
                <a:gridCol w="216000"/>
                <a:gridCol w="181440"/>
                <a:gridCol w="1208880"/>
                <a:gridCol w="1539720"/>
                <a:gridCol w="181800"/>
                <a:gridCol w="181440"/>
                <a:gridCol w="181440"/>
                <a:gridCol w="181440"/>
                <a:gridCol w="871200"/>
                <a:gridCol w="216000"/>
              </a:tblGrid>
              <a:tr h="861840">
                <a:tc gridSpan="7">
                  <a: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9">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Совет на Европа</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бука за органите за спроведување на законот како дел од првата екипа на местото на настан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28600">
                <a:tc gridSpan="1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Распор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432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r>
              <a:tr h="636840">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b" marL="90000" marR="90000">
                    <a:lnL w="576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09:00 - 10: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0:00 -11: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00 - 12: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00 - 13: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00 - 14:00 </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4:00 - 15: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gridSpan="3">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5:00 - 16:00</a:t>
                      </a:r>
                      <a:endParaRPr b="0" lang="en-US" sz="900" spc="-1" strike="noStrike">
                        <a:solidFill>
                          <a:srgbClr val="000000"/>
                        </a:solidFill>
                        <a:latin typeface="Calibri"/>
                      </a:endParaRPr>
                    </a:p>
                  </a:txBody>
                  <a:tcPr anchor="b" marL="90000" marR="90000">
                    <a:lnL w="4320">
                      <a:solidFill>
                        <a:srgbClr val="000000"/>
                      </a:solidFill>
                    </a:lnL>
                    <a:lnR w="432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6:00 - 17:00</a:t>
                      </a:r>
                      <a:endParaRPr b="0" lang="en-US" sz="900" spc="-1" strike="noStrike">
                        <a:solidFill>
                          <a:srgbClr val="000000"/>
                        </a:solidFill>
                        <a:latin typeface="Calibri"/>
                      </a:endParaRPr>
                    </a:p>
                  </a:txBody>
                  <a:tcPr anchor="b" marL="90000" marR="90000">
                    <a:lnL w="4320">
                      <a:solidFill>
                        <a:srgbClr val="000000"/>
                      </a:solidFill>
                    </a:lnL>
                    <a:lnR w="5760">
                      <a:solidFill>
                        <a:srgbClr val="000000"/>
                      </a:solidFill>
                    </a:lnR>
                    <a:lnT w="4320">
                      <a:solidFill>
                        <a:srgbClr val="000000"/>
                      </a:solidFill>
                    </a:lnT>
                    <a:lnB w="5760">
                      <a:solidFill>
                        <a:srgbClr val="000000"/>
                      </a:solidFill>
                    </a:lnB>
                    <a:solidFill>
                      <a:srgbClr val="fbd4b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1826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1</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Отворање на курсот и запознавање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5">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1.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Вовед во начелата и постапките за електронски докази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систем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мпјутерски мреж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Извори на докази</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ази од интернет, овластувања и дозволи, подготовка и планирање, надворешни специјализирани вешти лиц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974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2</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ој учествува и што треба да се земе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Обезбедување на местото на настанот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Документирање на местото на настанот</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6">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2.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анализа на уреди од самото место на настанот</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Во ситуација на проток на живи информации</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7290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ен 3</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bd4b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1</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Дневен преглед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gridSpan="2">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2</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Кратки упатства за тимовите</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АУЗ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Times New Roman"/>
                          <a:ea typeface="Times New Roman"/>
                        </a:rPr>
                        <a:t>Практична вежба</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3</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ретрес и заплена </a:t>
                      </a:r>
                      <a:r>
                        <a:rPr b="0" lang="mk-MK" sz="900" spc="-1" strike="noStrike">
                          <a:solidFill>
                            <a:srgbClr val="000000"/>
                          </a:solidFill>
                          <a:latin typeface="Times New Roman"/>
                          <a:ea typeface="Times New Roman"/>
                        </a:rPr>
                        <a:t>повратни информации за вежбата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1.3.5</a:t>
                      </a:r>
                      <a:endParaRPr b="0" lang="en-US" sz="9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Times New Roman"/>
                          <a:ea typeface="Times New Roman"/>
                        </a:rPr>
                        <a:t>Повратни информации од слушателите и од обучувачите затворање на курсот </a:t>
                      </a:r>
                      <a:endParaRPr b="0" lang="en-US" sz="9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Times New Roman"/>
                          <a:ea typeface="Times New Roman"/>
                        </a:rPr>
                        <a:t> </a:t>
                      </a:r>
                      <a:endParaRPr b="0" lang="en-US" sz="900" spc="-1" strike="noStrike">
                        <a:solidFill>
                          <a:srgbClr val="000000"/>
                        </a:solidFill>
                        <a:latin typeface="Calibri"/>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6840" y="1235160"/>
            <a:ext cx="8512200" cy="4890960"/>
          </a:xfrm>
          <a:prstGeom prst="rect">
            <a:avLst/>
          </a:prstGeom>
          <a:noFill/>
          <a:ln w="0">
            <a:noFill/>
          </a:ln>
        </p:spPr>
        <p:txBody>
          <a:bodyPr anchor="t">
            <a:normAutofit/>
          </a:bodyPr>
          <a:p>
            <a:pPr marL="343080" indent="-343080">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300" spc="-1" strike="noStrike">
                <a:solidFill>
                  <a:srgbClr val="000000"/>
                </a:solidFill>
                <a:latin typeface="Calibri"/>
              </a:rPr>
              <a:t>По предавањето на оваа наставна единица слушателите ќе можат: </a:t>
            </a:r>
            <a:endParaRPr b="0" lang="en-US" sz="23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дадат соодветни повратни информации за курсот и неговата делотворност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пополнат формуларите за оценка на курсот</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о идентификуваат следното ниво на знаење кое треба да го совладаат за да ги подобрат нивните познавања и вештини за предметната тема.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Дневен ред на курсот и очекувани резултати</a:t>
            </a:r>
            <a:br>
              <a:rPr sz="4000"/>
            </a:br>
            <a:br>
              <a:rPr sz="4000"/>
            </a:b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обучувачите и слушателите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вкупната цел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објаснат каква е потребата за ваков курс</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главните елементи на распоредот и активностите во текот на курсо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наведат постапките за заштита на здравјето и безбедноста во просториите каде се одржува курсот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6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600" spc="-1" strike="noStrike">
                <a:solidFill>
                  <a:srgbClr val="000000"/>
                </a:solidFill>
                <a:latin typeface="Calibri"/>
              </a:rPr>
              <a:t>Наставна единица 1.1.1 – Вовед во курсот - Очекувани резултати</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2 Вовед во начелата и постапките за електронски докази </a:t>
            </a:r>
            <a:endParaRPr b="0" lang="en-US" sz="4000" spc="-1" strike="noStrike">
              <a:solidFill>
                <a:srgbClr val="000000"/>
              </a:solidFill>
              <a:latin typeface="Calibri"/>
            </a:endParaRPr>
          </a:p>
        </p:txBody>
      </p:sp>
      <p:sp>
        <p:nvSpPr>
          <p:cNvPr id="64" name=""/>
          <p:cNvSpPr txBox="1"/>
          <p:nvPr/>
        </p:nvSpPr>
        <p:spPr>
          <a:xfrm>
            <a:off x="457200" y="1600200"/>
            <a:ext cx="8229600" cy="4749840"/>
          </a:xfrm>
          <a:prstGeom prst="rect">
            <a:avLst/>
          </a:prstGeom>
          <a:noFill/>
          <a:ln w="0">
            <a:noFill/>
          </a:ln>
        </p:spPr>
        <p:txBody>
          <a:bodyPr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Arial"/>
                <a:ea typeface="ＭＳ Ｐゴシック"/>
              </a:rPr>
              <a:t>По предавањето на оваа наставна единица слушателите ќе можат: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начелата за постапување со електронски докази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објаснат посебните карактеристики на електронските докази  </a:t>
            </a:r>
            <a:endParaRPr b="0" lang="en-US" sz="2800" spc="-1" strike="noStrike">
              <a:solidFill>
                <a:srgbClr val="000000"/>
              </a:solidFill>
              <a:latin typeface="Calibri"/>
            </a:endParaRPr>
          </a:p>
          <a:p>
            <a:pPr>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1.3 и 1.1.4 Извори на докази</a:t>
            </a:r>
            <a:br>
              <a:rPr sz="4000"/>
            </a:br>
            <a:endParaRPr b="0" lang="en-US" sz="4000" spc="-1" strike="noStrike">
              <a:solidFill>
                <a:srgbClr val="000000"/>
              </a:solidFill>
              <a:latin typeface="Calibri"/>
            </a:endParaRPr>
          </a:p>
        </p:txBody>
      </p:sp>
      <p:sp>
        <p:nvSpPr>
          <p:cNvPr id="66" name=""/>
          <p:cNvSpPr txBox="1"/>
          <p:nvPr/>
        </p:nvSpPr>
        <p:spPr>
          <a:xfrm>
            <a:off x="457200" y="1133280"/>
            <a:ext cx="8229600" cy="4863960"/>
          </a:xfrm>
          <a:prstGeom prst="rect">
            <a:avLst/>
          </a:prstGeom>
          <a:noFill/>
          <a:ln w="0">
            <a:noFill/>
          </a:ln>
        </p:spPr>
        <p:txBody>
          <a:bodyPr anchor="t">
            <a:norm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Arial"/>
                <a:ea typeface="ＭＳ Ｐゴシック"/>
              </a:rPr>
              <a:t>По предавањето на оваа наставна единица слушателите ќе можа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утврдат кои извори на докази имаат доказна вредност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направат разлика меѓу компјутерските мреж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ги идентификуваат мрежните уреди </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потенцијалните докази и извори на докази на интернет</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елотворно да ги завршат подготовката и планирањето на претресот и заплената на електронски докази</a:t>
            </a:r>
            <a:endParaRPr b="0" lang="en-US" sz="2400" spc="-1" strike="noStrike">
              <a:solidFill>
                <a:srgbClr val="000000"/>
              </a:solidFill>
              <a:latin typeface="Calibri"/>
            </a:endParaRPr>
          </a:p>
          <a:p>
            <a:pPr lvl="1" marL="285840" indent="-28584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овластувањата и одобрувањата во постапката за претрес и заплена на електронски докази </a:t>
            </a:r>
            <a:endParaRPr b="0" lang="en-US" sz="24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 разговараат за улогата на надворешните специјализирани вешти лица. </a:t>
            </a:r>
            <a:r>
              <a:rPr b="0" lang="mk-MK" sz="2600" spc="-1" strike="noStrike">
                <a:solidFill>
                  <a:srgbClr val="000000"/>
                </a:solidFill>
                <a:latin typeface="Calibri"/>
              </a:rPr>
              <a:t>  </a:t>
            </a:r>
            <a:endParaRPr b="0" lang="en-US" sz="2600" spc="-1" strike="noStrike">
              <a:solidFill>
                <a:srgbClr val="000000"/>
              </a:solidFill>
              <a:latin typeface="Calibri"/>
            </a:endParaRPr>
          </a:p>
          <a:p>
            <a:pPr lvl="1" marL="285840" indent="-28584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lvl="1" marL="285840" indent="-28584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nSpc>
                <a:spcPct val="8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1.2.1 и 1.3.1</a:t>
            </a:r>
            <a:br>
              <a:rPr sz="4000"/>
            </a:br>
            <a:r>
              <a:rPr b="1" lang="mk-MK" sz="4000" spc="-1" strike="noStrike">
                <a:solidFill>
                  <a:srgbClr val="000000"/>
                </a:solidFill>
                <a:latin typeface="Calibri"/>
              </a:rPr>
              <a:t>Дневни прегледи</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 предавањето на наставните единици, слушателите ќе можат:</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опфатени со активностите од претходниот ден кои слушателите ги разбрале</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областите за кои слушателите треба уште еднаш да го поминат материјалот за да го постигнат потребното ниво на знаењ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30T11:04:42Z</dcterms:created>
  <dc:creator>Nigel Jones</dc:creator>
  <dc:description/>
  <dc:language>en-US</dc:language>
  <cp:lastModifiedBy>Daniela</cp:lastModifiedBy>
  <dcterms:modified xsi:type="dcterms:W3CDTF">2013-07-25T00:54:34Z</dcterms:modified>
  <cp:revision>19</cp:revision>
  <dc:subject/>
  <dc:title>Introductory Cybercrime Training for Judges and Prosecutors</dc:title>
</cp:coreProperties>
</file>